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07E-0236-4AAE-83F3-F6390418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D9B-DB79-4662-9683-783EC7F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10C-F6DE-4B96-BD34-7E93BFF0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1D8-1AF4-4822-A8F3-447ECBCA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179-3A86-46B3-B8CA-8D411FB6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1DB-D13C-44CA-8E40-6E26F44C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863-1040-4870-8E92-B911601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A68-A7B3-43ED-B43F-0628693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D1E-6490-4398-BCDD-2DE499AF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8AE-ED98-4733-915A-3A94B0A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6DC-3BC5-4375-8FDE-741CDE3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4D9-45CD-494B-B929-158D1EE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C56-8526-4A0B-856C-8576A299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and Na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aquel and Geo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0600" y="380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lived in Central Mexico- Valley of Mexico their capital is Tenochtitlan that was built in the middle of a lak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lieved in many gods so the were Polythe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ther tribes as slaves and human sacrifice [ important 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brought down smallp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51160" y="54856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in the Yucatan Peninsula on the coast of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yas controlled many other tribes and made them tribu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dn’t care as much as other tribes about gol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57800" y="63237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o.missouristate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lived in the Andes Mts. of South Ame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no written language but sent notes by using kn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id animal sacrifice [lamas]  but on special occasions they did human sacrifice with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6280" y="1600200"/>
            <a:ext cx="40194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63237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was a Spanish explorer who traveled to conquer the Aztecs with 500 armed men  and 16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zuma thought that Cortez was Quetzalcoatl a pale skin Aztec go  and welcomed him and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521 Cortez came back and defeated the Aztecs once and for all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6712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38680" y="6253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is a Spanish explorer who traveled with a total of 180 men and their 27  hor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 civilization lived in the Andes Mts. of Peru in Sou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were easily taken over by Pizarro and the Spanish because they were fighting a civil war which is when two or more groups are fighting each o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38322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6171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sol.edu.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conquistadors change Central and South America for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quistadors [who take over by force] changed Mexico and South America because now everyone living in the area speak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Aztecs, Mayas, and Incas culture and traditions 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038840" cy="4495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57800" y="6490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ovst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16:43Z</dcterms:created>
  <dc:creator>jklib</dc:creator>
  <dc:description/>
  <dc:language>en-US</dc:language>
  <cp:lastModifiedBy>jklib</cp:lastModifiedBy>
  <dcterms:modified xsi:type="dcterms:W3CDTF">2011-11-29T14:27:10Z</dcterms:modified>
  <cp:revision>4</cp:revision>
  <dc:subject/>
  <dc:title>Spanish and Natives </dc:title>
</cp:coreProperties>
</file>